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0E6-6852-4E99-B190-10781500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EC4-3B5F-4EA8-A532-04035423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3B5-DFC6-4D3A-8BAC-79944F11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27E-D8AB-4F4D-9230-10990EA0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E00-7B9A-4CC4-9F6E-57177037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AA1-0098-4538-BE38-B1541141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DE8-D0B6-4157-B9CE-068CCAF7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642-BF99-4B4C-9D61-A6959A44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AB2-AD67-4118-B886-B8B4CC15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672-A430-40D9-9545-A041189C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B85-1104-4386-845B-265DC0A8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FFBD-BAE5-4E84-BC68-A00FE760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458E-EAF6-4629-AC65-0482285993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eriods of Bible History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 – Invasion and Conqu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-southern-northern campa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13:7 divide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21:43 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land promise fulf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24:29 Joshua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 – Jud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 judges – Rebellion, Repression, Repentance, Resc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Gideon and 300 men; Jephthah and daughter; Samson, Eli and wicked sons; Sam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 8 – we want a king; Saul anoi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ed 35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9 – United Kingdo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l – 1040–1000 B.C.; 1 Sam 15 – Amalek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– 1000-960 B.C.; preparation for the temple; 2 Sam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omon – 960-920(921) B.C.; temple began in 956 B.C.; wisdom, wives, id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 – Divided Kingdo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21-721 B.C. – 20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– north – Jereboam – 10 tribes; calves at Dan and Beth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good kings; fell to Assyria in 721 B.C.—gone for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h – south – Rehoboam – 2 tri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zekiah king when Israel f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1 – Judah Alo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21-586 B.C. – 135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sseh evil king for 55 years; ultimate downfall of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iah – 31 good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usalem fell to Babylon (Nebuchadnezzar) in 586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2 –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6-536 B.C. – 70 years (overl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6/605 B.C. first captivities taken; Daniel (image of Dan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97 B.C. second captivities taken; Ezeki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86 B.C. Jerusalem fell; 2 Kings 25:21; Judah carried away ca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 – Return from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36 B.C. – first return; decree of Cyrus king of Persia (Ezra 1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79 B.C. - Es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8 B.C. – Ez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45-443 B.C. – Nehemiah  (Neh 2:1, 13: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 – Return from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built walls; built temple (not like Solomon’s); restored w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achi ends 443/432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 – Years of Sil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inder of image of Daniel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1 B.C. – Persia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4-323 B.C. – Alexander the G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3 B.C. – Rome took Pal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7 B.C. – Herod made king of Ju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B.C. – Herod’s temple beg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1 – silence bro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 – Life of Chri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of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s of Ret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of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rrection and Exal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Seed promise fulf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 – Before the Floo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1 –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2 – Adam and Eve in the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3 – first s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(Gen 3:15 – first promise of Se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4 – Cain and 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5 – generations of Ad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 – Early Churc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2 – first gospel sermon; church established  (spiritual 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8 – Samaritans hear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10 – Cornelius, first Gentile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13ff - Paul and Barnabas; gospel to Asia Minor, Greece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7 – Letters to the Christ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, Peter, James, Jude, Jo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 – Floo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6 – wickedness; ark b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7 – flood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8 – waters rece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9 – meat for food, capital punishment, rainbow promise, Noah’s 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 – Scattering of the Peop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11 – Plain of Shinar; Tower of Babel; confused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– Patriarch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 ru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-5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ham, Isaac, Jacob (Isra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12:1-3,7  promises to Abraham—Nation, Land, Seed  (Acts 3:25-2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sons; Joseph sold into Egypt; famine; family (70) moved 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– Exodu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years have passed; Pharaoh arose who did not know Joseph; made sl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—plagues; #10 death of firstborn; cross Red Sea; travel to Mt Sinai; m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nant, Law, Priesthood, Tabernacle; 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nation promise fulfill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spies sent from Kadesh-Barn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– Wanderings in the Wilder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 14:33 sentenced to wander forty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16 – Korah, Dathan, and Abiram re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0 – Miriam dies; sin of Moses “must we bring water”; Edom refuses passage; Aaron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– Wanderings in the Wilder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1 – bronze serpent  (John 3: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2 – Balaam and Bar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6 – second census; all over 20 years old had died except Joshua and Cal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7 – Joshua appointed; Moses dies; ready to enter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 – Invasion and Conqu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3 – cross Jor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5 – circumcision; manna st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6 – Jeri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7-8 – 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9 – Gibeon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01:39:57Z</dcterms:created>
  <dc:creator>Wayne Holt</dc:creator>
  <dc:description/>
  <dc:language>en-US</dc:language>
  <cp:lastModifiedBy>Wayne Holt</cp:lastModifiedBy>
  <dcterms:modified xsi:type="dcterms:W3CDTF">2002-08-25T19:31:33Z</dcterms:modified>
  <cp:revision>6</cp:revision>
  <dc:subject/>
  <dc:title>1 – Before the Flood</dc:title>
</cp:coreProperties>
</file>